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DBD0-8261-479A-8219-2E0C6E58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9794-9CC8-4B89-A302-8DFE7410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432E-BDB8-4B3B-B8B0-8A0A1CBD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898B-9103-4BA0-88B3-9507B4CC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51F7-18F2-4C83-BD85-D887EB30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11F0-321E-48F2-9BEE-D25F50FB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9590-B799-4212-B1CE-BC7D8B9A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2F92-07F2-47BD-996A-A34CCC9D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A643-008D-49BE-A3B4-59AC5614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712A-580B-4B3B-B21A-4875C41B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7C38-CD83-4341-8E75-BA98B198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ADE5-D059-427D-BFFB-C18F3EA3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8990-0737-4BF8-AA22-9BD7EBDB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737D-8F84-4061-BB22-98133538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28E2-A0A2-4BD7-8D28-DD47E533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DB86-3580-4B49-8909-C5479B08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81E4-BA2D-4E45-A51C-5136062C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E11B-26A9-4D6B-9194-82E58E44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54AB-0A96-423C-950C-D9005351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BD75-9928-4DE5-91EF-720A2E34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5461-C7E2-413F-BD63-68CFBC8A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21E-E78A-4A7B-AF26-6CAA6BC9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CCD7-CCD8-42DE-8EA7-FA601E1F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C494-B29E-4D7B-85DB-BFF72AB6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AFF5-B7F0-4F84-88AE-94141DA5162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EC55-8457-4808-8B35-F09EEF30B1D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90720" y="1752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MANAGEMENT OF BACTERIAL KIDNEY DISEASE WITH THE “NEW” KIRKEGAARD AND PERRY ANTIBOD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33098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oberta Scott, Douglas Munson,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d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Keith Johns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31760" y="149400"/>
          <a:ext cx="8886960" cy="66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" y="149400"/>
                    <a:ext cx="8886960" cy="66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ELISAantigencapture" descr=""/>
          <p:cNvPicPr/>
          <p:nvPr/>
        </p:nvPicPr>
        <p:blipFill>
          <a:blip r:embed="rId1"/>
          <a:stretch/>
        </p:blipFill>
        <p:spPr>
          <a:xfrm>
            <a:off x="2646360" y="833400"/>
            <a:ext cx="3851280" cy="5189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253760" y="468936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Coating Antibod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10600" y="385128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BKD Antige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87080" y="1565280"/>
            <a:ext cx="170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Conjugat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Antibod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5480" y="3459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Color Reac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190512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685800"/>
            <a:ext cx="68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4419720" y="3504240"/>
            <a:ext cx="838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0800000">
            <a:off x="4010400" y="4567680"/>
            <a:ext cx="26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10080" y="762120"/>
            <a:ext cx="685800" cy="685800"/>
          </a:xfrm>
          <a:custGeom>
            <a:avLst/>
            <a:gdLst/>
            <a:ahLst/>
            <a:rect l="l" t="t" r="r" b="b"/>
            <a:pathLst>
              <a:path w="432" h="432">
                <a:moveTo>
                  <a:pt x="0" y="192"/>
                </a:moveTo>
                <a:lnTo>
                  <a:pt x="144" y="288"/>
                </a:lnTo>
                <a:lnTo>
                  <a:pt x="144" y="432"/>
                </a:lnTo>
                <a:lnTo>
                  <a:pt x="240" y="384"/>
                </a:lnTo>
                <a:lnTo>
                  <a:pt x="432" y="384"/>
                </a:lnTo>
                <a:lnTo>
                  <a:pt x="384" y="240"/>
                </a:lnTo>
                <a:lnTo>
                  <a:pt x="432" y="144"/>
                </a:lnTo>
                <a:lnTo>
                  <a:pt x="192" y="0"/>
                </a:lnTo>
                <a:lnTo>
                  <a:pt x="0" y="19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86400" y="685800"/>
            <a:ext cx="961920" cy="914400"/>
          </a:xfrm>
          <a:prstGeom prst="star5">
            <a:avLst/>
          </a:prstGeom>
          <a:solidFill>
            <a:srgbClr val="93ea84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IN 1996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SUPPLIES OF BATCH 1 ANTIBODIES PRODUCED BY KPL WERE DEPLET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PL PRODUCED THE BATCH 2 ANTIBODI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S SECOND GROUP OF REAGENTS PRODUCED ELISA OPTICAL DENSITIES THAT WERE INCONSISTENT WITH BATCH 1 ANTIBODI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KPL ANTIBODY TIMELIN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980’S TO 1996:  KPL BATCH 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996 TO 2003:  KPL BATCH 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2003:  NEW KP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0" y="1031760"/>
          <a:ext cx="9144000" cy="479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31760"/>
                    <a:ext cx="9144000" cy="47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2362320" y="304920"/>
            <a:ext cx="43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KPL Antibodies:  Good Vs. Ba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0" y="0"/>
          <a:ext cx="9013680" cy="65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36440" y="68400"/>
          <a:ext cx="8934480" cy="67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68400"/>
                    <a:ext cx="8934480" cy="67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7162920" y="2362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NFHPC LAB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68400" y="303120"/>
          <a:ext cx="9001080" cy="619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303120"/>
                    <a:ext cx="900108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IDFG EXPECTS A CULLING RATE OF 10% STATEWIDE 2003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UTH FORK TRAP:  5.92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WELL TRAP:  12.07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EARWATER:  19.84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WTOOTH: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.0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WORSHAK NFH:  7.6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PID RIVER:  13.4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HSIMEROI:  0.9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TEWIDE MEAN:  10.6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CONCLUSIONS: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NEW (2003) KPL COATING AND CONJUGATED ANTIBODIES ARE EQUIVALENT TO THE FIRST REAGENT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IDFG HAS UTILIZED THESE REAGENTS DURING 2003 CHINOOK SPAWNING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971800" y="228600"/>
            <a:ext cx="3276720" cy="533520"/>
          </a:xfrm>
          <a:prstGeom prst="rect">
            <a:avLst/>
          </a:prstGeom>
          <a:solidFill>
            <a:srgbClr val="66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0" name="BKD%20Fish" descr=""/>
          <p:cNvPicPr/>
          <p:nvPr/>
        </p:nvPicPr>
        <p:blipFill>
          <a:blip r:embed="rId1"/>
          <a:srcRect l="3333" t="0" r="0" b="7515"/>
          <a:stretch/>
        </p:blipFill>
        <p:spPr>
          <a:xfrm>
            <a:off x="0" y="1090440"/>
            <a:ext cx="9059760" cy="57675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975400" y="130320"/>
            <a:ext cx="33231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imes New Roman"/>
              </a:rPr>
              <a:t>BKD LESION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52280" y="1066680"/>
            <a:ext cx="845820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ahoma"/>
              </a:rPr>
              <a:t>Thanks and Appreciation to: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Ron Pascho,WFR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Dorothy Chase, WFR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Eagle Laboratory Staff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Kimberly True, USFW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ark Peterson, NMF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ark Strom, NMF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Leslie Lindsay, ODFW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5" name="fish" descr=""/>
          <p:cNvPicPr/>
          <p:nvPr/>
        </p:nvPicPr>
        <p:blipFill>
          <a:blip r:embed="rId1"/>
          <a:stretch/>
        </p:blipFill>
        <p:spPr>
          <a:xfrm>
            <a:off x="4800600" y="2362320"/>
            <a:ext cx="41148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PRIOR TO 1994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FG TOOK A 60 FISH SAMPLE DURING CHINOOK SPAWNING USING DF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D NOT UTILIZE CULLING OR SEGREGATION TO MINIMIZE VERTICAL TRANSMISSION OF BK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PIZOOTICS OF BKD IN JUVENILE CHINOOK SALM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600200" y="0"/>
            <a:ext cx="5867280" cy="609480"/>
          </a:xfrm>
          <a:prstGeom prst="rect">
            <a:avLst/>
          </a:prstGeom>
          <a:solidFill>
            <a:srgbClr val="66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FAT%20of%20BKD" descr=""/>
          <p:cNvPicPr/>
          <p:nvPr/>
        </p:nvPicPr>
        <p:blipFill>
          <a:blip r:embed="rId1"/>
          <a:stretch/>
        </p:blipFill>
        <p:spPr>
          <a:xfrm>
            <a:off x="0" y="774720"/>
            <a:ext cx="9144000" cy="6083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600200" y="0"/>
            <a:ext cx="5918040" cy="5814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BKD Fluorescent Antibody Tes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SINCE 1994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FG HAS PROVIDED AN INTEGRATED MANAGEMENT PROGRAM TO LIMIT LOSSES TO BK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ISA-BASED CULLING AND SEGREG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SO INTRAPERITONEAL INJECTIONS OF ADULTS WITH ERYTHROMYCI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SINCE 1994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ODOPHOR DISINFECTION OF EGG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PHYLACTIC ERYTHROMYCIN MEDICATED FEED TREATMENT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AS LIMITED BKD EPIZOOTICS TO HIGH BKD SEGREGATION GROUP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ID-HATCH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5524560" cy="6629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1219320" y="2857680"/>
            <a:ext cx="24588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1000" y="2487600"/>
            <a:ext cx="24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380880"/>
            <a:ext cx="480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Times New Roman"/>
              </a:rPr>
              <a:t>Idaho Department of Fish and Gam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03840" y="914400"/>
            <a:ext cx="204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Times New Roman"/>
              </a:rPr>
              <a:t>Fish Hatcherie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84880" y="4457880"/>
            <a:ext cx="304560" cy="5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3048120"/>
            <a:ext cx="195120" cy="164880"/>
          </a:xfrm>
          <a:custGeom>
            <a:avLst/>
            <a:gdLst/>
            <a:ahLst/>
            <a:rect l="l" t="t" r="r" b="b"/>
            <a:pathLst>
              <a:path w="92" h="139">
                <a:moveTo>
                  <a:pt x="1" y="0"/>
                </a:moveTo>
                <a:cubicBezTo>
                  <a:pt x="2" y="16"/>
                  <a:pt x="0" y="33"/>
                  <a:pt x="5" y="48"/>
                </a:cubicBezTo>
                <a:cubicBezTo>
                  <a:pt x="7" y="54"/>
                  <a:pt x="16" y="54"/>
                  <a:pt x="20" y="58"/>
                </a:cubicBezTo>
                <a:cubicBezTo>
                  <a:pt x="33" y="71"/>
                  <a:pt x="42" y="85"/>
                  <a:pt x="58" y="96"/>
                </a:cubicBezTo>
                <a:cubicBezTo>
                  <a:pt x="67" y="131"/>
                  <a:pt x="63" y="124"/>
                  <a:pt x="92" y="139"/>
                </a:cubicBez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12680" y="93600"/>
          <a:ext cx="8982000" cy="668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680" y="93600"/>
                    <a:ext cx="8982000" cy="66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128520" y="112680"/>
          <a:ext cx="8782200" cy="65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12680"/>
                    <a:ext cx="8782200" cy="65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20:27:50Z</dcterms:created>
  <dc:creator>idfg</dc:creator>
  <dc:description/>
  <dc:language>en-US</dc:language>
  <cp:lastModifiedBy>idfg</cp:lastModifiedBy>
  <dcterms:modified xsi:type="dcterms:W3CDTF">2003-11-26T21:56:18Z</dcterms:modified>
  <cp:revision>19</cp:revision>
  <dc:subject/>
  <dc:title>MANAGEMENT OF BACTERIAL KIDNEY DISEASE WITH THE “NEW” KIRKEGAARD AND PERRY ANTIBODIES</dc:title>
</cp:coreProperties>
</file>